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FD4-EE3D-49C2-9CA7-3F1A801E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32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200"/>
            <a:ext cx="82328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8836-BD0F-4A6B-9ED1-98F9D14D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32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4017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601280"/>
            <a:ext cx="4017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200"/>
            <a:ext cx="4017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67200"/>
            <a:ext cx="4017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19F-EDDD-4B03-88C5-7A650A04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32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26506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280"/>
            <a:ext cx="26506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880" y="1601280"/>
            <a:ext cx="26506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200"/>
            <a:ext cx="26506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7200"/>
            <a:ext cx="26506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880" y="3967200"/>
            <a:ext cx="26506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706-DF2E-4FE4-8826-EC53D120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32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1280"/>
            <a:ext cx="8232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5FF-212F-4FC0-BC77-1B99C067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32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3BF-2E7D-4355-9FFA-CE77EC13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32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4017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601280"/>
            <a:ext cx="4017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28E-18C4-4002-99FE-207AC335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32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B56-14F0-45D9-9655-805D65BB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328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C32-5F0E-4FD3-B8F0-5978425C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32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4017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601280"/>
            <a:ext cx="4017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200"/>
            <a:ext cx="4017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AD4-90C4-4319-BFFB-448BD284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32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4017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601280"/>
            <a:ext cx="4017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67200"/>
            <a:ext cx="4017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80C-E438-4575-92B9-32602111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32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4017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601280"/>
            <a:ext cx="4017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200"/>
            <a:ext cx="82328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94D-E500-4FB4-BE50-DE1B47F7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32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1280"/>
            <a:ext cx="8232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320" y="6244920"/>
            <a:ext cx="216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9800" y="6244920"/>
            <a:ext cx="2938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9920" y="6244920"/>
            <a:ext cx="202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D854-83D0-4B66-BE76-33C8C0115A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66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下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3520" y="1476360"/>
            <a:ext cx="87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66"/>
                </a:solidFill>
                <a:latin typeface="Comic Sans MS"/>
              </a:rPr>
              <a:t>Tian’anmen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873520" y="71424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Times New Roman"/>
              </a:rPr>
              <a:t>Lesson    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3626526661505477429406.jpg"/>
          <p:cNvPicPr/>
          <p:nvPr/>
        </p:nvPicPr>
        <p:blipFill>
          <a:blip r:embed="rId1"/>
          <a:stretch/>
        </p:blipFill>
        <p:spPr>
          <a:xfrm>
            <a:off x="19080" y="2862360"/>
            <a:ext cx="9124920" cy="39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6269520401426211958008.jpg"/>
          <p:cNvPicPr/>
          <p:nvPr/>
        </p:nvPicPr>
        <p:blipFill>
          <a:blip r:embed="rId1"/>
          <a:stretch/>
        </p:blipFill>
        <p:spPr>
          <a:xfrm rot="5399400">
            <a:off x="210600" y="484200"/>
            <a:ext cx="3813120" cy="424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3229090031505477429470.jpg"/>
          <p:cNvPicPr/>
          <p:nvPr/>
        </p:nvPicPr>
        <p:blipFill>
          <a:blip r:embed="rId2"/>
          <a:stretch/>
        </p:blipFill>
        <p:spPr>
          <a:xfrm rot="5400000">
            <a:off x="5019840" y="378360"/>
            <a:ext cx="3813120" cy="4452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0" y="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Comic Sans MS"/>
              </a:rPr>
              <a:t>Look, talk and wri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1160" y="4813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n picture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,there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</a:rPr>
              <a:t>are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two men. They are wal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1160" y="5853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In picture 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,there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</a:rPr>
              <a:t>is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one man. He is sin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898560" y="2027160"/>
            <a:ext cx="785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209520"/>
            <a:ext cx="5056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0" y="0"/>
            <a:ext cx="59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按要求写单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0" y="1492200"/>
            <a:ext cx="874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1.take(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现在分词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)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2.big(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反义词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3.child (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复数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)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4.difficult(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反义词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704880"/>
            <a:ext cx="8521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5.play(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现在分词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)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6.can not (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缩写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7.happy(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反义词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)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8.fly(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现在分词</a:t>
            </a:r>
            <a:r>
              <a:rPr b="1" i="1" lang="zh-CN" sz="4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4672080"/>
            <a:ext cx="8481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</a:rPr>
              <a:t>Tian’anmen Square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 is very bi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</a:rPr>
              <a:t>There are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 many people her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-3021801972406362093.png"/>
          <p:cNvPicPr/>
          <p:nvPr/>
        </p:nvPicPr>
        <p:blipFill>
          <a:blip r:embed="rId1"/>
          <a:stretch/>
        </p:blipFill>
        <p:spPr>
          <a:xfrm>
            <a:off x="642960" y="619200"/>
            <a:ext cx="607068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0"/>
            <a:ext cx="57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99"/>
                </a:solidFill>
                <a:latin typeface="Times New Roman"/>
              </a:rPr>
              <a:t>On the squ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4797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Some children  are </a:t>
            </a:r>
            <a:r>
              <a:rPr b="1" i="1" lang="zh-CN" sz="4800" spc="-1" strike="noStrike">
                <a:solidFill>
                  <a:srgbClr val="ff0066"/>
                </a:solidFill>
                <a:latin typeface="Times New Roman"/>
              </a:rPr>
              <a:t>fly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ing </a:t>
            </a:r>
            <a:r>
              <a:rPr b="1" i="1" lang="zh-CN" sz="4800" spc="-1" strike="noStrike">
                <a:solidFill>
                  <a:srgbClr val="ff0066"/>
                </a:solidFill>
                <a:latin typeface="Times New Roman"/>
              </a:rPr>
              <a:t>kites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-2406659962480456697.png"/>
          <p:cNvPicPr/>
          <p:nvPr/>
        </p:nvPicPr>
        <p:blipFill>
          <a:blip r:embed="rId1"/>
          <a:stretch/>
        </p:blipFill>
        <p:spPr>
          <a:xfrm>
            <a:off x="690480" y="933480"/>
            <a:ext cx="6210360" cy="29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735440" y="1327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take pic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-133200" y="400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Some people are </a:t>
            </a:r>
            <a:r>
              <a:rPr b="1" i="1" lang="zh-CN" sz="4400" spc="-1" strike="noStrike">
                <a:solidFill>
                  <a:srgbClr val="ff0066"/>
                </a:solidFill>
                <a:latin typeface="Times New Roman"/>
              </a:rPr>
              <a:t>tak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ing </a:t>
            </a:r>
            <a:r>
              <a:rPr b="1" i="1" lang="zh-CN" sz="4400" spc="-1" strike="noStrike">
                <a:solidFill>
                  <a:srgbClr val="ff0066"/>
                </a:solidFill>
                <a:latin typeface="Times New Roman"/>
              </a:rPr>
              <a:t>pictures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 on the squa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-8285117952347534953.png"/>
          <p:cNvPicPr/>
          <p:nvPr/>
        </p:nvPicPr>
        <p:blipFill>
          <a:blip r:embed="rId1"/>
          <a:stretch/>
        </p:blipFill>
        <p:spPr>
          <a:xfrm>
            <a:off x="157320" y="695160"/>
            <a:ext cx="40478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206960"/>
            <a:ext cx="7526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The man is </a:t>
            </a:r>
            <a:r>
              <a:rPr b="1" i="1" lang="zh-CN" sz="5400" spc="-1" strike="noStrike">
                <a:solidFill>
                  <a:srgbClr val="ff0066"/>
                </a:solidFill>
                <a:latin typeface="Times New Roman"/>
              </a:rPr>
              <a:t>worr</a:t>
            </a: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ied</a:t>
            </a:r>
            <a:r>
              <a:rPr b="1" i="1" lang="zh-CN" sz="5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i="1" lang="zh-CN" sz="5400" spc="-1" strike="noStrike">
                <a:solidFill>
                  <a:srgbClr val="ff0066"/>
                </a:solidFill>
                <a:latin typeface="Times New Roman"/>
              </a:rPr>
              <a:t>sad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7243260135294199664.png"/>
          <p:cNvPicPr/>
          <p:nvPr/>
        </p:nvPicPr>
        <p:blipFill>
          <a:blip r:embed="rId1"/>
          <a:stretch/>
        </p:blipFill>
        <p:spPr>
          <a:xfrm>
            <a:off x="733320" y="880920"/>
            <a:ext cx="33703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9171221911505477429456.jpg"/>
          <p:cNvPicPr/>
          <p:nvPr/>
        </p:nvPicPr>
        <p:blipFill>
          <a:blip r:embed="rId1"/>
          <a:stretch/>
        </p:blipFill>
        <p:spPr>
          <a:xfrm>
            <a:off x="2533680" y="2581200"/>
            <a:ext cx="4130640" cy="2727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3"/>
          <p:cNvSpPr/>
          <p:nvPr/>
        </p:nvSpPr>
        <p:spPr>
          <a:xfrm>
            <a:off x="0" y="473040"/>
            <a:ext cx="4065480" cy="3184560"/>
          </a:xfrm>
          <a:prstGeom prst="cloudCallout">
            <a:avLst>
              <a:gd name="adj1" fmla="val 27078"/>
              <a:gd name="adj2" fmla="val 63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07880" y="1025640"/>
            <a:ext cx="34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This is     </a:t>
            </a:r>
            <a:r>
              <a:rPr b="1" i="1" lang="zh-CN" sz="4800" spc="-1" strike="noStrike">
                <a:solidFill>
                  <a:srgbClr val="ff0066"/>
                </a:solidFill>
                <a:latin typeface="Times New Roman"/>
              </a:rPr>
              <a:t>difficult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968720" y="0"/>
            <a:ext cx="4362480" cy="3000240"/>
          </a:xfrm>
          <a:prstGeom prst="cloudCallout">
            <a:avLst>
              <a:gd name="adj1" fmla="val -27185"/>
              <a:gd name="adj2" fmla="val 6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10360" y="615960"/>
            <a:ext cx="4527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i="1" lang="zh-CN" sz="4000" spc="-1" strike="noStrike">
                <a:solidFill>
                  <a:srgbClr val="ff0066"/>
                </a:solidFill>
                <a:latin typeface="Times New Roman"/>
              </a:rPr>
              <a:t>worry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I can </a:t>
            </a:r>
            <a:r>
              <a:rPr b="1" i="1" lang="zh-CN" sz="40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0" y="4927680"/>
            <a:ext cx="31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4400" spc="-1" strike="noStrike">
                <a:solidFill>
                  <a:srgbClr val="ff0066"/>
                </a:solidFill>
                <a:latin typeface="Times New Roman"/>
              </a:rPr>
              <a:t>say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753080" y="5597640"/>
            <a:ext cx="382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His mother </a:t>
            </a:r>
            <a:r>
              <a:rPr b="1" i="1" lang="zh-CN" sz="4400" spc="-1" strike="noStrike">
                <a:solidFill>
                  <a:srgbClr val="ff0066"/>
                </a:solidFill>
                <a:latin typeface="Times New Roman"/>
              </a:rPr>
              <a:t>say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628560"/>
            <a:ext cx="73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Let’s read this dialogu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507960"/>
            <a:ext cx="8258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Comic Sans MS"/>
              </a:rPr>
              <a:t>What are Jenny and Danny do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Comic Sans MS"/>
              </a:rPr>
              <a:t>Can Danny fly a k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Comic Sans MS"/>
              </a:rPr>
              <a:t>What does Jenny s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0"/>
            <a:ext cx="65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Read and answer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01520" y="4214880"/>
            <a:ext cx="8258040" cy="2488680"/>
            <a:chOff x="101520" y="4214880"/>
            <a:chExt cx="8258040" cy="2488680"/>
          </a:xfrm>
        </p:grpSpPr>
        <p:pic>
          <p:nvPicPr>
            <p:cNvPr id="66" name="Picture 5" descr="2735650701426223746248.png"/>
            <p:cNvPicPr/>
            <p:nvPr/>
          </p:nvPicPr>
          <p:blipFill>
            <a:blip r:embed="rId1"/>
            <a:stretch/>
          </p:blipFill>
          <p:spPr>
            <a:xfrm>
              <a:off x="4332240" y="4214880"/>
              <a:ext cx="4027320" cy="24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6" descr="213972401426223746246.png"/>
            <p:cNvPicPr/>
            <p:nvPr/>
          </p:nvPicPr>
          <p:blipFill>
            <a:blip r:embed="rId2"/>
            <a:stretch/>
          </p:blipFill>
          <p:spPr>
            <a:xfrm>
              <a:off x="101520" y="4255920"/>
              <a:ext cx="4390920" cy="24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Text Box 7"/>
          <p:cNvSpPr/>
          <p:nvPr/>
        </p:nvSpPr>
        <p:spPr>
          <a:xfrm>
            <a:off x="595440" y="1587600"/>
            <a:ext cx="63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66"/>
                </a:solidFill>
                <a:latin typeface="Times New Roman"/>
              </a:rPr>
              <a:t>They are flying ki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52320" y="28479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66"/>
                </a:solidFill>
                <a:latin typeface="Times New Roman"/>
              </a:rPr>
              <a:t>No , he can’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96800" y="4084560"/>
            <a:ext cx="43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</a:rPr>
              <a:t>This is eas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3874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1.Jenny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(can / can’t) fly her ki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ery hig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2.Danny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(can / can’t) fly a ki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3.He hurts his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. (arm / le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4.He is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. (happy / sa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176040"/>
            <a:ext cx="85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Comic Sans MS"/>
              </a:rPr>
              <a:t>Fill in the blanks and re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5:46:03Z</dcterms:created>
  <dc:creator>曹惜惜</dc:creator>
  <dc:description/>
  <dc:language>en-US</dc:language>
  <cp:lastModifiedBy>曹惜惜</cp:lastModifiedBy>
  <dcterms:modified xsi:type="dcterms:W3CDTF">2017-09-18T12:16:46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